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C4FB-AEC4-4012-BE38-AA3B29F5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B264-44F6-4DC8-B288-2DFE1ACE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95C-35E5-4D3B-8ED2-39C429FD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6FE-25A5-4682-9187-AA75462A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A8B6-5E57-409C-AEAD-5B7C3143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11D2-D7B4-454E-B3AA-2F0104C2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A78C-EEAD-4A06-A0F0-06555697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8335-3502-4562-83C4-4FB1F1AB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2A46-6B46-436A-AC19-325B10BA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9CC4-572A-48B8-BBFE-6CECA2E6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A3C3-C6B8-4FBF-8D34-F94E5D66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17E-46E9-41E3-B754-4A45A8A1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6429-28AF-45BD-A9C4-5FCD3AAD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6859-98CB-4335-A738-3C578748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CBD1-3F06-487D-9E7D-0E04E913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353E-BFF4-40A9-B3B4-44E62416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5372-3A2D-410A-B24F-E126CDBD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774-D2CE-4EFA-9909-16B0627A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9231-32C9-4991-8FB6-B812D5B3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157D-288F-4CAE-9C77-EF8047E2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4A7-4EAC-42C1-BF83-927974B2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48E-6902-46C8-92B4-F02E428D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B15-C2FD-40FB-9698-845FDA3A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034-EAC8-4139-A5E6-7820A115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C361-999B-4243-B2EB-5BA3C7013F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074A-D4AA-41C0-9C67-710F05454B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hyperlink" Target="http://www.google.com/imgres?imgurl=http://www.istockphoto.com/file_thumbview_approve/3712750/2/istockphoto_3712750-african-animals.jpg&amp;imgrefurl=http://www.istockphoto.com/stock-illustration-3712750-african-animals.php&amp;usg=__oaMv8c2qvdXYKGN5GhC_KqJP8b0=&amp;h=380&amp;w=380&amp;sz=56&amp;hl=en&amp;start=10&amp;itbs=1&amp;tbnid=NYRQ2TrYseLvZM:&amp;tbnh=123&amp;tbnw=123&amp;prev=/images%3Fq%3Danimals%26hl%3Den%26safe%3Dactive%26gbv%3D2%26tbs%3Disch: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hyperlink" Target="http://www.google.com/imgres?imgurl=http://www.appleiphoneschool.com/wp-content/uploads/2008/04/iphone_colors.png&amp;imgrefurl=http://www.appleiphoneschool.com/2008/04/02/iphones-sold-out/&amp;usg=__Kb3tZ8UCVvA4JTeNHJ4-SoiwxMI=&amp;h=448&amp;w=400&amp;sz=143&amp;hl=en&amp;start=15&amp;itbs=1&amp;tbnid=tU68h5uTzUteEM:&amp;tbnh=127&amp;tbnw=113&amp;prev=/images%3Fq%3Dcolors%26hl%3Den%26safe%3Dactive%26gbv%3D2%26tbs%3Disch:1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com/imgres?imgurl=http://www.multileveler.com/uploads/numbers.jpg&amp;imgrefurl=http://www.weblo.com/property/real_estate/Numbers/2054808/&amp;usg=__4nXYsDrLqYXmD-oyNJQEta1cUDc=&amp;h=437&amp;w=600&amp;sz=94&amp;hl=en&amp;start=8&amp;itbs=1&amp;tbnid=odCb8T4wveu4-M:&amp;tbnh=98&amp;tbnw=135&amp;prev=/images%3Fq%3Dnumbers%26hl%3Den%26safe%3Dactive%26gbv%3D2%26tbs%3Disch: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hyperlink" Target="http://www.google.com/imgres?imgurl=http://questgarden.com/27/13/1/060717192931/images/seasons-tree.jpg&amp;imgrefurl=http://questgarden.com/27/13/1/060717192931/index.htm&amp;usg=__DQOqIj8ZYnVvLFqCUh4ukMX_4BU=&amp;h=482&amp;w=360&amp;sz=64&amp;hl=en&amp;start=6&amp;itbs=1&amp;tbnid=s91wJiLmXBK8DM:&amp;tbnh=129&amp;tbnw=96&amp;prev=/images%3Fq%3Dseasons%26hl%3Den%26safe%3Dactive%26gbv%3D2%26tbs%3Disch:1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a Clase De Espanol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nnifer Pantoja Pare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638680" y="4191120"/>
            <a:ext cx="2667240" cy="21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Las Animales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fa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ja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645080" y="1752480"/>
            <a:ext cx="3922560" cy="4267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24382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colo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oj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ranj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iril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zu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rpu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5080" y="1752480"/>
            <a:ext cx="3922560" cy="426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2209680"/>
            <a:ext cx="29066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s Numer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at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n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eti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ch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e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5080" y="1752480"/>
            <a:ext cx="392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590920"/>
            <a:ext cx="33526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Esta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vern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imaver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ran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ton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5080" y="1752480"/>
            <a:ext cx="3922560" cy="4267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52388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26:46Z</dcterms:created>
  <dc:creator>WSFCS Workstation</dc:creator>
  <dc:description/>
  <dc:language>en-US</dc:language>
  <cp:lastModifiedBy>WSFCS Workstation</cp:lastModifiedBy>
  <dcterms:modified xsi:type="dcterms:W3CDTF">2010-04-26T15:58:26Z</dcterms:modified>
  <cp:revision>4</cp:revision>
  <dc:subject/>
  <dc:title>La Clase De Espanol </dc:title>
</cp:coreProperties>
</file>